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4DE7D-9D24-442B-A7D1-BC1BFE035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08526-137E-4F60-BCD5-AA94075F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87681-67EC-4FE2-8D50-6026C93AC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A4A3B-D4B8-4781-8616-7C9388951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2721-3914-4252-BF17-6C3250D78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D093-16FA-4D38-863B-EA9F81B3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E574F-00FD-4081-B93A-33FBFE2D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70D67-9D4B-47F1-9FAB-18E371B6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93242-158E-4257-ADA5-BA65FA3F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70719-E255-40D3-BC50-356BF15B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6796-AF37-4820-8F0E-DDDDE849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31D2E-6955-424C-AF63-987FDA27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0528-22A5-41FE-8BB9-97D74DDD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6EC4-A7FA-42CF-AD11-D9631D1A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F838-509B-4907-9EA5-106C9BE6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3925-EA78-4B98-9F81-25A4A57F6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F11B-D258-43EF-BD36-E21206B79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866A7-17AF-4A74-BC3C-8057D3CE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20E16-6597-4829-8808-425BB435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66726-9A58-4356-9E77-A7C32D95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3AF13-BE2B-4BCC-BFE0-594547AC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F1762-F5DA-4380-90A4-8C63A668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6630F-AEB2-4EDE-93A4-92FD6135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0ED4A-CB89-47A9-ABC5-6AEF9879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04162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416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416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416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416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416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204162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416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204162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416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0416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04162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0416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C02F-3D16-495C-8018-81DBC2CC0D1A}" type="slidenum">
              <a:rPr b="0" lang="en-US" sz="1200" spc="-1" strike="noStrike">
                <a:solidFill>
                  <a:srgbClr val="20416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2041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2041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04162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33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33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33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0416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04162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204162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0416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04162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0416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04162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0416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5B45-69B8-4CE0-A8A9-2BC9417BC098}" type="slidenum">
              <a:rPr b="0" lang="en-US" sz="1200" spc="-1" strike="noStrike">
                <a:solidFill>
                  <a:srgbClr val="20416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2041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04162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33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33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33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2041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0416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6933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Arial"/>
              </a:rPr>
              <a:t>Me llamo _______ Clase 6NH  (602) </a:t>
            </a:r>
            <a:br>
              <a:rPr sz="3000"/>
            </a:br>
            <a:r>
              <a:rPr b="0" lang="en-US" sz="3000" spc="-1" strike="noStrike">
                <a:solidFill>
                  <a:srgbClr val="99cc00"/>
                </a:solidFill>
                <a:latin typeface="Arial"/>
              </a:rPr>
              <a:t>La fecha es el 8 de noviembre del 2012</a:t>
            </a:r>
            <a:endParaRPr b="0" lang="en-US" sz="30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320" y="1828800"/>
            <a:ext cx="899136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Propósito # 16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iénes dan los exámenes en la escuela?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XTO: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pia y responde: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Estudias tú italiano en la escuela?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la clase de música, ¿tocas un instrumento?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Tomas tú muchos apuntes en la clase de español?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ontestas muchas preguntas en la clase?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Bailas tú mucho en las fiestas?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0000"/>
                </a:solidFill>
                <a:latin typeface="Arial"/>
              </a:rPr>
              <a:t>Repaso de las palabras interrogativ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view of question words</a:t>
            </a:r>
            <a:endParaRPr b="0" lang="en-US" sz="24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01064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cribe en español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ho?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hen?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here?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hich?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ow many?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t what…?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0000"/>
                </a:solidFill>
                <a:latin typeface="Arial"/>
              </a:rPr>
              <a:t>Tarea # 16</a:t>
            </a: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4162"/>
                </a:solidFill>
                <a:latin typeface="Arial"/>
              </a:rPr>
              <a:t>WORKBOOK: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4162"/>
                </a:solidFill>
                <a:latin typeface="Arial"/>
              </a:rPr>
              <a:t>Completa p. R9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23:31:24Z</dcterms:created>
  <dc:creator>Helen Zumaeta</dc:creator>
  <dc:description/>
  <dc:language>en-US</dc:language>
  <cp:lastModifiedBy>Helen Zumaeta</cp:lastModifiedBy>
  <dcterms:modified xsi:type="dcterms:W3CDTF">2012-11-08T17:33:51Z</dcterms:modified>
  <cp:revision>10</cp:revision>
  <dc:subject/>
  <dc:title>Me llamo _______ Clase 6NH La fecha es el 29 de febrero del 2012</dc:title>
</cp:coreProperties>
</file>